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FC6FE-D9D4-42EB-B65E-20E349EFE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6080" y="55440"/>
            <a:ext cx="3574800" cy="2689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6080" y="317160"/>
            <a:ext cx="3574800" cy="3715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6080" y="724320"/>
            <a:ext cx="3574800" cy="3715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4D48B-AAD4-47D1-BFCC-02379BC99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6080" y="55440"/>
            <a:ext cx="3574800" cy="2689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6080" y="317160"/>
            <a:ext cx="1744200" cy="3715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47760" y="317160"/>
            <a:ext cx="1744200" cy="3715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6080" y="724320"/>
            <a:ext cx="1744200" cy="3715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147760" y="724320"/>
            <a:ext cx="1744200" cy="3715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A63D9-F16D-435B-A0F2-8F6187543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6080" y="55440"/>
            <a:ext cx="3574800" cy="2689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6080" y="317160"/>
            <a:ext cx="1150920" cy="3715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t">
            <a:normAutofit fontScale="95000"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524960" y="317160"/>
            <a:ext cx="1150920" cy="3715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t">
            <a:normAutofit fontScale="95000"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33840" y="317160"/>
            <a:ext cx="1150920" cy="3715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t">
            <a:normAutofit fontScale="95000"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6080" y="724320"/>
            <a:ext cx="1150920" cy="3715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t">
            <a:normAutofit fontScale="95000"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524960" y="724320"/>
            <a:ext cx="1150920" cy="3715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t">
            <a:normAutofit fontScale="95000"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2733840" y="724320"/>
            <a:ext cx="1150920" cy="3715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t">
            <a:normAutofit fontScale="95000"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0E6C9-6567-4D8F-BCAE-C0D5E048DD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6080" y="55440"/>
            <a:ext cx="3574800" cy="2689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6080" y="317160"/>
            <a:ext cx="35748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CE79-65E8-4EB4-903C-EC755F0D9D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5440"/>
            <a:ext cx="3574800" cy="2689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6080" y="317160"/>
            <a:ext cx="3574800" cy="77940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54FF-F008-4F6A-9366-97C4681EE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5440"/>
            <a:ext cx="3574800" cy="2689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160"/>
            <a:ext cx="1744200" cy="77940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147760" y="317160"/>
            <a:ext cx="1744200" cy="77940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01E8D-C791-4E7C-BC72-926292A11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6080" y="55440"/>
            <a:ext cx="3574800" cy="2689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DD333-0057-4508-878A-6F02FA910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6080" y="61920"/>
            <a:ext cx="3574800" cy="11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97CF4-5C7B-4E7E-AF15-4A4CF186B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5440"/>
            <a:ext cx="3574800" cy="2689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6080" y="317160"/>
            <a:ext cx="1744200" cy="3715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147760" y="317160"/>
            <a:ext cx="1744200" cy="77940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6080" y="724320"/>
            <a:ext cx="1744200" cy="3715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069C4-512A-4B2C-B075-B949990291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6080" y="55440"/>
            <a:ext cx="3574800" cy="2689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6080" y="317160"/>
            <a:ext cx="1744200" cy="77940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147760" y="317160"/>
            <a:ext cx="1744200" cy="3715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147760" y="724320"/>
            <a:ext cx="1744200" cy="3715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7D59-A567-4642-A92F-F9CCF80F4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6080" y="55440"/>
            <a:ext cx="3574800" cy="2689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6080" y="317160"/>
            <a:ext cx="1744200" cy="3715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147760" y="317160"/>
            <a:ext cx="1744200" cy="3715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6080" y="724320"/>
            <a:ext cx="3574800" cy="37152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E508-D767-4347-8274-1D4C84668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61920"/>
            <a:ext cx="3574800" cy="25560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160"/>
            <a:ext cx="3574800" cy="779400"/>
          </a:xfrm>
          <a:prstGeom prst="rect">
            <a:avLst/>
          </a:prstGeom>
          <a:noFill/>
          <a:ln w="0">
            <a:noFill/>
          </a:ln>
        </p:spPr>
        <p:txBody>
          <a:bodyPr lIns="12600" rIns="32760" tIns="12600" bIns="12600" anchor="t">
            <a:normAutofit fontScale="50000"/>
          </a:bodyPr>
          <a:p>
            <a:pPr marL="64080" indent="-60840">
              <a:spcBef>
                <a:spcPts val="3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6440" indent="-50760">
              <a:spcBef>
                <a:spcPts val="3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8800" indent="-41400">
              <a:spcBef>
                <a:spcPts val="3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91240" indent="-41040">
              <a:spcBef>
                <a:spcPts val="3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72960" indent="-40320">
              <a:spcBef>
                <a:spcPts val="300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72960" indent="-40320">
              <a:spcBef>
                <a:spcPts val="300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72960" indent="-40320">
              <a:spcBef>
                <a:spcPts val="300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402000" y="998280"/>
            <a:ext cx="101520" cy="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2120" bIns="4212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79A6-6AC7-4232-97C8-1F5151980649}" type="slidenum">
              <a:rPr b="0" lang="en-US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76320" y="150840"/>
            <a:ext cx="3962160" cy="782640"/>
            <a:chOff x="76320" y="150840"/>
            <a:chExt cx="3962160" cy="782640"/>
          </a:xfrm>
        </p:grpSpPr>
        <p:sp>
          <p:nvSpPr>
            <p:cNvPr id="40" name=""/>
            <p:cNvSpPr/>
            <p:nvPr/>
          </p:nvSpPr>
          <p:spPr>
            <a:xfrm>
              <a:off x="76320" y="150840"/>
              <a:ext cx="3962160" cy="782640"/>
            </a:xfrm>
            <a:prstGeom prst="roundRect">
              <a:avLst>
                <a:gd name="adj" fmla="val 16662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24560" y="194760"/>
              <a:ext cx="2063160" cy="6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32760" tIns="12600" bIns="12600" anchor="ctr">
              <a:spAutoFit/>
            </a:bodyPr>
            <a:p>
              <a:pPr marL="19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Haskell’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imon Peyton Jones</dc:creator>
  <dc:description/>
  <dc:language>en-US</dc:language>
  <cp:lastModifiedBy/>
  <cp:revision>0</cp:revision>
  <dc:subject/>
  <dc:title>No Slide Title</dc:title>
</cp:coreProperties>
</file>